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FED-BB57-413B-9518-CAD9DCCB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E4E-4D28-4BC5-B8C8-13BC91D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95E-79B8-43E6-B27A-1F12CFCD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DD8-B889-4102-B10C-B2025BEB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C661-E127-40A0-B076-93464C44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2F6D-23D0-468D-9E52-72188AFC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B028-8DC3-4FB4-A81B-699751BE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980E-25A8-466E-B862-1144974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73F-588A-4B17-B8DA-C14C0E1B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6355-B672-403A-A480-03BDFE22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1318-60A3-44EB-B568-354D36C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C66-5ED7-4C32-A189-8D34F665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A964-D72B-4323-B2AD-966BAD34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4791-4DE8-474F-A635-852E3D94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39E4-5123-4135-96BA-3A47C60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833A-029C-4D1B-BFF5-E8FF6B8F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CE89-9266-4E98-A418-C51E6051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8EB1-DF7A-41A5-BD34-0CEC38C2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BC4-C41D-4FE5-9844-E1B57DAD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369-001B-4135-B8E0-55CC59B6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A5A7-3B44-4124-BCD8-C3C37765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11D-C237-486E-8624-670995C7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D85-A3BB-4A5D-9C36-F434BD0C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D9A-F94B-46FF-B851-00B96AA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219F-EFD0-4A57-BF27-44182E7492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62D7-E3AE-410F-9A73-E0D8CB47D9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ickr.com/photos/huntleylibrary" TargetMode="External"/><Relationship Id="rId3" Type="http://schemas.openxmlformats.org/officeDocument/2006/relationships/hyperlink" Target="http://www.flickr.com/photos/cctwebtea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438280" y="685800"/>
            <a:ext cx="4648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2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FableHav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author: Brandon Mu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762280" cy="4092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867280" y="3429000"/>
            <a:ext cx="2187720" cy="2006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00400" y="2209680"/>
            <a:ext cx="2133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by: Co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aracters and Description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h : courious, a good guy, easygoing,encouraging,and he’s sm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dra : brave, smart easygoing, and always nerv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etting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c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Fableha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dparent’s 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3327480" cy="493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bleHaven attacked and its up to Kendra to save it from the wit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The 1st main eve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itch named Muriel puts a spell on Fableha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of the family gets chained to a w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riel tries to capture Kendra, but Kendra gets a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2nd main event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ndra destroys FableHaven with a tru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Kendra comes back to FableHaven to see if Muriel was her old self a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uthor’s message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be br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ver be a snoo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8377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uthor’s Bibliography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60400" y="1981080"/>
            <a:ext cx="3700440" cy="37036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bleHaven 2 rise of the evening st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ip of the shadow pla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s of the dragon sanctu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s to the Demon Pris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orld without H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andy shop W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882800" cy="1905120"/>
          </a:xfrm>
          <a:prstGeom prst="rect">
            <a:avLst/>
          </a:prstGeom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19320" y="2286000"/>
            <a:ext cx="148752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901880" cy="285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048120" y="4572000"/>
            <a:ext cx="1498320" cy="209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228600" y="2286000"/>
            <a:ext cx="990720" cy="1738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228600" y="44956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371600" y="4572000"/>
            <a:ext cx="1631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4572000" cy="8380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mage resources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7696080" cy="44197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flickr.com/photos/huntley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://www.flickr.com/photos/cctweb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lickr.com/photos/storiesforchildrenmagaz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lickr.com/photos/timberline_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brandonmull.com/images/Beyonders-cover.jp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2.bp.blogspo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shadowmountai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4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6:02:44Z</dcterms:created>
  <dc:creator>D83  User</dc:creator>
  <dc:description/>
  <dc:language>en-US</dc:language>
  <cp:lastModifiedBy>D83  User</cp:lastModifiedBy>
  <dcterms:modified xsi:type="dcterms:W3CDTF">2010-12-09T14:57:19Z</dcterms:modified>
  <cp:revision>13</cp:revision>
  <dc:subject/>
  <dc:title>PowerPoint Presentation</dc:title>
</cp:coreProperties>
</file>